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C66-AC14-4E06-8AAA-CAEB1ED3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6F5-DEE9-4837-9BE5-D0AB7AB6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F3E-49D2-4F86-9026-4F02A020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8F9-5619-4D4D-BD42-437547EC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1CF0-1F24-4B06-B4FD-6B77E642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0566-0562-473C-B34C-46BFBA69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27D-0393-470E-B125-E03643E7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699-BDA8-4747-BFC1-CE78D11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6B4E-A360-480D-9B1B-266B0B28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A634-C263-41D7-8D91-0D202B0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ED26-2370-4228-A1FC-1FA6FC6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F96-5C1E-4923-9DD3-1FE8C39F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3E1-838C-408A-B943-973FA017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4D1-15CB-4173-B173-2D12383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CC8-35A5-4D73-B368-F28A290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C59-E14E-44F3-AFF6-E5BC6F8A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AEC-CC54-4A07-94CF-5FF1ECC7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470-23A4-4F7A-8793-E4A79E8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20F-5CF3-40B2-B4F3-F0032E61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780-4047-450C-9C39-C7B740BC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B6E-9369-4E5E-A4B4-28D390F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18F-4594-463B-94E6-4A0BAB3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CA0-EFD2-47CE-BE2C-CFD5DCC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14B-BBD9-4D5D-829F-2AC71DF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/>
            <a:ahLst/>
            <a:rect l="l" t="t" r="r" b="b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52640 w 695160"/>
                  <a:gd name="textAreaRight" fmla="*/ 542520 w 695160"/>
                  <a:gd name="textAreaTop" fmla="*/ 40320 h 183960"/>
                  <a:gd name="textAreaBottom" fmla="*/ 14364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/>
                <a:ahLst/>
                <a:rect l="l" t="t" r="r" b="b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/>
                <a:ahLst/>
                <a:rect l="l" t="t" r="r" b="b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/>
                <a:ahLst/>
                <a:rect l="l" t="t" r="r" b="b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/>
              <a:ahLst/>
              <a:rect l="l" t="t" r="r" b="b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d1919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600120" y="3164040"/>
            <a:ext cx="560520" cy="2022480"/>
          </a:xfrm>
          <a:custGeom>
            <a:avLst/>
            <a:gdLst/>
            <a:ahLst/>
            <a:rect l="l" t="t" r="r" b="b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80160 w 1728720"/>
                  <a:gd name="textAreaRight" fmla="*/ 1348560 w 1728720"/>
                  <a:gd name="textAreaTop" fmla="*/ 88920 h 405000"/>
                  <a:gd name="textAreaBottom" fmla="*/ 31608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a64c4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 Tell The Good News – Part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Quarter 12, Lesson 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alatia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ges 125-13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3456000" cy="2560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hurches of Galat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tioch of Pisi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coniu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ystr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rb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ossibly others that started through their influenc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ircumcision Iss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ad been settled in Acts 15 so far as the apostles were concerne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ut, some teachers in the churches of Galatia loved their ideas of circumcision and the Law of Moses more than they loved Jesus’ apost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y denied Paul was an apost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us, they undermined his apostolic authority and the conclusions he sent back from the apostolic meeting in Acts 15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e will call them “Judaizing teachers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daizing Teach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ere Jews who had been converted to Chri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ut, they demanded that Gentiles must first become Jews (by being circumcised) before they could be accepted as brethr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se false teachers were a source of bitter opposition to Paul and oth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080" y="1442520"/>
            <a:ext cx="8775720" cy="485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od made me an apostle – 1:1-5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ow could you accept another gospel so soon ? – 1:6-10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 know what I am talking about – 1:11-2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other apostles acknowledged my gospel – 2:1-10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eter’s momentary lapse into hypocrisy was not an open denial of Paul’s truthfulness and apostleship – 2:11-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Justification comes by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faith in Christ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, not by the law of Moses – 3:1-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ose under the law were under a curse – 3:10-12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Jesus became a curse to make forgiveness possible – 3:13-1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dding the law did not void the promise God had made – 3:15 - 4:7 (Gen.12:1-4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law was added because of transgression until the seed came – 3:19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080" y="1447560"/>
            <a:ext cx="8775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law of God was not contrary to the promise of God (3:19-24)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ut the law could not give lif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ll men were locked in sin and mere law could not erase those sin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ll Are Children of God By Faith In Jesus – 3:23-29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doption as sons does not enslave us to the law – 4:1-7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hy would anyone want to go back to a slavery that could not save? – 4:8-1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hy have your feelings for me changed? Who caused them to change? – 4:12-20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ou are helping to fulfill the allegory of Ishmael and Isaac – 4:21-3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080" y="1447560"/>
            <a:ext cx="8775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ou were set free; do not go back under bondage – 5:1 - 6:18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ne who accepts circumcision (as legally binding) is obligated to keep the whole law – 5:2-12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 not use your freedom as license to indulge the flesh – 5:13-15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alk by the Spirit and you will not fulfill the desires of the flesh – 5:16-2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Keep your responsibilities to one another – 6:1-10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false teachers do not keep the law – 6:11-1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y boast is only in the cross of Christ – 6:17-18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46:00Z</dcterms:created>
  <dc:creator>Terry W. Benton</dc:creator>
  <dc:description/>
  <dc:language>en-US</dc:language>
  <cp:lastModifiedBy>Frank D Vines</cp:lastModifiedBy>
  <dcterms:modified xsi:type="dcterms:W3CDTF">2007-01-07T02:17:36Z</dcterms:modified>
  <cp:revision>5</cp:revision>
  <dc:subject/>
  <dc:title>Go Tell The Good News – Part 2</dc:title>
</cp:coreProperties>
</file>